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FE7-18B1-41DB-ACA0-8EECFAAC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A05-BFC9-4CC5-8D1F-6ACF9A6A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4A8-1CC4-47D2-923F-4FE99F5D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CF1-E826-4358-A391-A89953AD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A7A-12C1-4C66-ABB9-9ADD15CC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DC7-FB9B-49B3-81DD-BAEEBD73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E2C-F76A-47FA-94A6-7F31762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43D-504F-4274-BDC7-EC403AF7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C4B-AB05-4168-BB1C-16CB5CAF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9AE-7B9D-4558-8587-C7FA4512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7BA-DAAB-43A3-8936-7A80CE9B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5B9-A4FA-4CFA-ACD7-127271F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798-6A98-4004-A6E9-7DA99F8B9D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5000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0" descr="Perth &amp; District Tourists.JPG"/>
          <p:cNvPicPr/>
          <p:nvPr/>
        </p:nvPicPr>
        <p:blipFill>
          <a:blip r:embed="rId1"/>
          <a:stretch/>
        </p:blipFill>
        <p:spPr>
          <a:xfrm>
            <a:off x="237960" y="28584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Perth Bowlers.JPG"/>
          <p:cNvPicPr/>
          <p:nvPr/>
        </p:nvPicPr>
        <p:blipFill>
          <a:blip r:embed="rId2"/>
          <a:stretch/>
        </p:blipFill>
        <p:spPr>
          <a:xfrm>
            <a:off x="1738440" y="214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Perth Tartan Tour.JPG"/>
          <p:cNvPicPr/>
          <p:nvPr/>
        </p:nvPicPr>
        <p:blipFill>
          <a:blip r:embed="rId3"/>
          <a:stretch/>
        </p:blipFill>
        <p:spPr>
          <a:xfrm>
            <a:off x="3452760" y="3571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Perth Ex Presidents.JPG"/>
          <p:cNvPicPr/>
          <p:nvPr/>
        </p:nvPicPr>
        <p:blipFill>
          <a:blip r:embed="rId4"/>
          <a:stretch/>
        </p:blipFill>
        <p:spPr>
          <a:xfrm>
            <a:off x="4952880" y="71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Perth League.JPG"/>
          <p:cNvPicPr/>
          <p:nvPr/>
        </p:nvPicPr>
        <p:blipFill>
          <a:blip r:embed="rId5"/>
          <a:stretch/>
        </p:blipFill>
        <p:spPr>
          <a:xfrm>
            <a:off x="6738840" y="428760"/>
            <a:ext cx="1006560" cy="973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5"/>
          <p:cNvSpPr/>
          <p:nvPr/>
        </p:nvSpPr>
        <p:spPr>
          <a:xfrm>
            <a:off x="0" y="1357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&amp;  DISTRICT TOURISTS  PERTH &amp;  DISTRICT  BOWLERS        PERTH  TARTAN  TOUR                 PERTH  EX  PRESIDENTS          PERTH  &amp;  DISTRICT  LEAG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0-02-02T17:08:45Z</dcterms:modified>
  <cp:revision>35</cp:revision>
  <dc:subject/>
  <dc:title>Slide 1</dc:title>
</cp:coreProperties>
</file>